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D0E0-471E-41E1-B1AF-15EBFA418B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90CC-4426-465A-9995-4BA6A683EE8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6A7F-39A2-4F18-A27A-48494BDD657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C520-D5AA-4725-9C79-DE16F66D4C6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48E4-331B-44EF-B7A3-845C706D87A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000B-F4A9-4DA8-B045-95006924787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E1C6-AE66-4084-8C54-6C17C1394DD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1408-5C3C-45CA-8AAF-F6395D04B4B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F065-38A8-4BF6-8F07-4D6B2504D614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F721-6821-463C-9F47-CB3425704A0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B9CF-84A3-47FC-B6AF-FB003928BAC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F556-8FD4-4992-A755-AF17D655E86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CB6A-0BEC-47E3-9B84-663447CFD70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3991-DC9C-4A6C-B574-2FEC18DD608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13BD-0B71-422E-9AF0-282C3B9477F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9EE7-F2C4-41C7-8755-635BA8C11B4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D871-5EB6-4320-B9CF-585CF592EFC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F3F3-681E-415F-8F9D-A11BC2F8FED4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A91E-E39D-4578-8FDA-F685F76AB75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6C06-BEC4-4439-9656-1F1DA5C8E5D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5CED-8B2A-40DB-BE70-863A472EE8D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1E1B-DE23-48DF-9D1D-9AF267B2DEA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13A2-C2D3-4AA4-B4E7-3C858BBE544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A96D-5D83-4F87-A6A0-8B00EC7733F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0F19-3515-4FF1-B2DD-48EAB80B8EA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67BC-8D7D-49D2-966A-809018A4FB7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2857-2236-4998-BA43-D9C4094738A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4DD6-01A4-4989-ACD2-8411E0403B3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95C4-D94E-44AB-8498-2D1E6775752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6D9A-C333-4B2E-95ED-16A6ECC3A29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8C8F-E12A-41F4-ADAA-49E42F6D709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814A-9677-4A07-82F0-745DE3A3938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45A2-0E58-470C-809B-F6807BCF4426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553F-60B5-458B-8135-D146BC198E7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E01A-FD4B-45CD-9AAC-1607CF6F537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91A8-232A-448B-925B-A51115240F1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9EED-D753-48F5-ABA4-D4956CD0616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EC77-B352-4D2A-AD8D-EDC36CEAB3C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DA4E-D007-4C5B-9DEA-99773607114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5728-C3CF-409F-A0BF-15E2C9C2362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0933-3980-44F7-99AD-54405CF1795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8379-6F80-4656-9235-4D93A3C4176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6844-E6A8-44CA-97DC-1ACA86AC229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F522-A0B5-44E9-A209-1520E973D1B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BA6B-7465-4B2E-A6EE-72EE06F5EB6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DD5B-D8AF-438B-944B-ECDE21820E9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5461-7C89-4004-868B-D02E7EE57576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CCD-D006-443B-993D-8D9B7E3FDF1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58C2-605F-4C68-8B42-5901D8A4B0D6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982-02AD-4730-A04E-1ECB3C4C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3F8-79C1-41B5-963A-69442B2F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D75-B8D6-4C38-8B19-EAE8E3FE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A5B-424C-4FC4-8C09-E24E54D9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CC5-9129-44DF-8D46-A8A6F4FF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FC2-5D48-478E-95DE-E23094CD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585-3A4E-4FED-847A-A653DC0A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53D-C27E-4D79-A092-798C3A3D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6B3-DC51-4EED-BE6D-7B772889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FFD-3EDB-4248-946F-6EFD757A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D2B-537D-404A-8482-201135F6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590-56B6-4FE6-9C01-C8CF276E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27A3-DFDB-4B94-8AAF-89989BC6F8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굴림"/>
              </a:rPr>
              <a:t>NH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다같이성장론 이용안내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63640" y="1989000"/>
            <a:ext cx="56167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목차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구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기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타조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_x217998640" descr="EMB0000100c2bf0"/>
          <p:cNvPicPr/>
          <p:nvPr/>
        </p:nvPicPr>
        <p:blipFill>
          <a:blip r:embed="rId1"/>
          <a:stretch/>
        </p:blipFill>
        <p:spPr>
          <a:xfrm>
            <a:off x="3436920" y="6194520"/>
            <a:ext cx="21099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거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Picture 3" descr="C:\Users\Administrator\Pictures\그림1.png"/>
          <p:cNvPicPr/>
          <p:nvPr/>
        </p:nvPicPr>
        <p:blipFill>
          <a:blip r:embed="rId1"/>
          <a:stretch/>
        </p:blipFill>
        <p:spPr>
          <a:xfrm>
            <a:off x="1407960" y="622440"/>
            <a:ext cx="633276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거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" name="Picture 5" descr="C:\Users\Administrator\Pictures\그림2.png"/>
          <p:cNvPicPr/>
          <p:nvPr/>
        </p:nvPicPr>
        <p:blipFill>
          <a:blip r:embed="rId1"/>
          <a:stretch/>
        </p:blipFill>
        <p:spPr>
          <a:xfrm>
            <a:off x="944640" y="765000"/>
            <a:ext cx="7253280" cy="4486320"/>
          </a:xfrm>
          <a:prstGeom prst="rect">
            <a:avLst/>
          </a:prstGeom>
          <a:ln w="0">
            <a:noFill/>
          </a:ln>
        </p:spPr>
      </p:pic>
      <p:sp>
        <p:nvSpPr>
          <p:cNvPr id="77" name="직사각형 3"/>
          <p:cNvSpPr/>
          <p:nvPr/>
        </p:nvSpPr>
        <p:spPr>
          <a:xfrm>
            <a:off x="2693880" y="3903840"/>
            <a:ext cx="1063800" cy="172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거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Picture 3" descr="C:\Users\Administrator\Pictures\그림3.png"/>
          <p:cNvPicPr/>
          <p:nvPr/>
        </p:nvPicPr>
        <p:blipFill>
          <a:blip r:embed="rId1"/>
          <a:stretch/>
        </p:blipFill>
        <p:spPr>
          <a:xfrm>
            <a:off x="990720" y="766800"/>
            <a:ext cx="722952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거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47880" y="765000"/>
            <a:ext cx="72482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거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" name="Picture 3" descr="C:\Users\Administrator\Pictures\그림4.png"/>
          <p:cNvPicPr/>
          <p:nvPr/>
        </p:nvPicPr>
        <p:blipFill>
          <a:blip r:embed="rId1"/>
          <a:stretch/>
        </p:blipFill>
        <p:spPr>
          <a:xfrm>
            <a:off x="1395360" y="836640"/>
            <a:ext cx="63514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Picture 3" descr="C:\Users\Administrator\Pictures\그림5.png"/>
          <p:cNvPicPr/>
          <p:nvPr/>
        </p:nvPicPr>
        <p:blipFill>
          <a:blip r:embed="rId1"/>
          <a:stretch/>
        </p:blipFill>
        <p:spPr>
          <a:xfrm>
            <a:off x="927000" y="853920"/>
            <a:ext cx="7290000" cy="402912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3"/>
          <p:cNvSpPr/>
          <p:nvPr/>
        </p:nvSpPr>
        <p:spPr>
          <a:xfrm>
            <a:off x="2660760" y="3471840"/>
            <a:ext cx="1065240" cy="17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" name="Picture 3" descr="C:\Users\Administrator\Pictures\그림6.png"/>
          <p:cNvPicPr/>
          <p:nvPr/>
        </p:nvPicPr>
        <p:blipFill>
          <a:blip r:embed="rId1"/>
          <a:stretch/>
        </p:blipFill>
        <p:spPr>
          <a:xfrm>
            <a:off x="876240" y="844560"/>
            <a:ext cx="73756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914400" y="836640"/>
            <a:ext cx="73152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내역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전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2" name="Picture 3" descr="C:\Users\Administrator\Pictures\그림7.png"/>
          <p:cNvPicPr/>
          <p:nvPr/>
        </p:nvPicPr>
        <p:blipFill>
          <a:blip r:embed="rId1"/>
          <a:stretch/>
        </p:blipFill>
        <p:spPr>
          <a:xfrm>
            <a:off x="1763640" y="682560"/>
            <a:ext cx="547380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905040" y="907920"/>
            <a:ext cx="73339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2" descr=""/>
          <p:cNvPicPr/>
          <p:nvPr/>
        </p:nvPicPr>
        <p:blipFill>
          <a:blip r:embed="rId1"/>
          <a:stretch/>
        </p:blipFill>
        <p:spPr>
          <a:xfrm>
            <a:off x="900000" y="822240"/>
            <a:ext cx="730584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직사각형 1"/>
          <p:cNvSpPr/>
          <p:nvPr/>
        </p:nvSpPr>
        <p:spPr>
          <a:xfrm>
            <a:off x="2495520" y="3252960"/>
            <a:ext cx="1817640" cy="204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4"/>
          <p:cNvSpPr/>
          <p:nvPr/>
        </p:nvSpPr>
        <p:spPr>
          <a:xfrm>
            <a:off x="2489040" y="3554280"/>
            <a:ext cx="1238400" cy="203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5"/>
          <p:cNvSpPr/>
          <p:nvPr/>
        </p:nvSpPr>
        <p:spPr>
          <a:xfrm>
            <a:off x="2484360" y="4392720"/>
            <a:ext cx="857160" cy="203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8"/>
          <p:cNvSpPr/>
          <p:nvPr/>
        </p:nvSpPr>
        <p:spPr>
          <a:xfrm>
            <a:off x="2489040" y="5567400"/>
            <a:ext cx="1238400" cy="203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내역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취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3" descr="C:\Users\Administrator\Pictures\그림8.png"/>
          <p:cNvPicPr/>
          <p:nvPr/>
        </p:nvPicPr>
        <p:blipFill>
          <a:blip r:embed="rId1"/>
          <a:stretch/>
        </p:blipFill>
        <p:spPr>
          <a:xfrm>
            <a:off x="1743120" y="755640"/>
            <a:ext cx="565632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결제내역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결제대상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38160" y="907920"/>
            <a:ext cx="72676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결제내역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결제대상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Picture 3" descr="C:\Users\Administrator\Pictures\그림9.png"/>
          <p:cNvPicPr/>
          <p:nvPr/>
        </p:nvPicPr>
        <p:blipFill>
          <a:blip r:embed="rId1"/>
          <a:stretch/>
        </p:blipFill>
        <p:spPr>
          <a:xfrm>
            <a:off x="1587600" y="743040"/>
            <a:ext cx="5967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결제내역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미결제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981000" y="836640"/>
            <a:ext cx="7191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결제내역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미결제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Picture 3" descr="C:\Users\Administrator\Pictures\그림10.png"/>
          <p:cNvPicPr/>
          <p:nvPr/>
        </p:nvPicPr>
        <p:blipFill>
          <a:blip r:embed="rId1"/>
          <a:stretch/>
        </p:blipFill>
        <p:spPr>
          <a:xfrm>
            <a:off x="1273320" y="792000"/>
            <a:ext cx="65959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결제내역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금지급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914400" y="836640"/>
            <a:ext cx="73152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결제내역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금지급내역조회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" name="Picture 3" descr="C:\Users\Administrator\Pictures\그림11.png"/>
          <p:cNvPicPr/>
          <p:nvPr/>
        </p:nvPicPr>
        <p:blipFill>
          <a:blip r:embed="rId1"/>
          <a:stretch/>
        </p:blipFill>
        <p:spPr>
          <a:xfrm>
            <a:off x="1231920" y="804960"/>
            <a:ext cx="668016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기타조회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판매기업현황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2"/>
          <p:cNvSpPr/>
          <p:nvPr/>
        </p:nvSpPr>
        <p:spPr>
          <a:xfrm>
            <a:off x="250920" y="6167520"/>
            <a:ext cx="84600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606060"/>
                </a:solidFill>
                <a:latin typeface="돋움"/>
                <a:ea typeface="돋움"/>
              </a:rPr>
              <a:t>판매기업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직사각형 3"/>
          <p:cNvSpPr/>
          <p:nvPr/>
        </p:nvSpPr>
        <p:spPr>
          <a:xfrm>
            <a:off x="361800" y="6397560"/>
            <a:ext cx="7351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06060"/>
                </a:solidFill>
                <a:latin typeface="돋움"/>
                <a:ea typeface="돋움"/>
              </a:rPr>
              <a:t>***-**-*****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942840" y="765000"/>
            <a:ext cx="7258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기타조회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판매기업현황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Picture 3" descr="C:\Users\Administrator\Pictures\그림12.png"/>
          <p:cNvPicPr/>
          <p:nvPr/>
        </p:nvPicPr>
        <p:blipFill>
          <a:blip r:embed="rId1"/>
          <a:stretch/>
        </p:blipFill>
        <p:spPr>
          <a:xfrm>
            <a:off x="936720" y="781200"/>
            <a:ext cx="72532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기타조회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약정체결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Picture 3" descr="C:\Users\Administrator\Pictures\그림13.png"/>
          <p:cNvPicPr/>
          <p:nvPr/>
        </p:nvPicPr>
        <p:blipFill>
          <a:blip r:embed="rId1"/>
          <a:stretch/>
        </p:blipFill>
        <p:spPr>
          <a:xfrm>
            <a:off x="884160" y="711360"/>
            <a:ext cx="73756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955800" y="798480"/>
            <a:ext cx="7257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340000" y="692280"/>
            <a:ext cx="4624200" cy="594180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3"/>
          <p:cNvSpPr/>
          <p:nvPr/>
        </p:nvSpPr>
        <p:spPr>
          <a:xfrm>
            <a:off x="2916360" y="3068640"/>
            <a:ext cx="2950920" cy="17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3" descr="C:\Users\Administrator\Pictures\그림14.png"/>
          <p:cNvPicPr/>
          <p:nvPr/>
        </p:nvPicPr>
        <p:blipFill>
          <a:blip r:embed="rId1"/>
          <a:stretch/>
        </p:blipFill>
        <p:spPr>
          <a:xfrm>
            <a:off x="1584360" y="725400"/>
            <a:ext cx="5973840" cy="5656320"/>
          </a:xfrm>
          <a:prstGeom prst="rect">
            <a:avLst/>
          </a:prstGeom>
          <a:ln w="0">
            <a:noFill/>
          </a:ln>
        </p:spPr>
      </p:pic>
      <p:sp>
        <p:nvSpPr>
          <p:cNvPr id="122" name="직사각형 3"/>
          <p:cNvSpPr/>
          <p:nvPr/>
        </p:nvSpPr>
        <p:spPr>
          <a:xfrm>
            <a:off x="2876400" y="3471840"/>
            <a:ext cx="1028880" cy="17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Picture 3" descr="C:\Users\Administrator\Pictures\그림15.png"/>
          <p:cNvPicPr/>
          <p:nvPr/>
        </p:nvPicPr>
        <p:blipFill>
          <a:blip r:embed="rId1"/>
          <a:stretch/>
        </p:blipFill>
        <p:spPr>
          <a:xfrm>
            <a:off x="1558800" y="709560"/>
            <a:ext cx="601056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전송내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등록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취소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933480" y="950760"/>
            <a:ext cx="72104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전송내역 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928800" y="900000"/>
            <a:ext cx="7286400" cy="4562640"/>
          </a:xfrm>
          <a:prstGeom prst="rect">
            <a:avLst/>
          </a:prstGeom>
          <a:ln w="0">
            <a:noFill/>
          </a:ln>
        </p:spPr>
      </p:pic>
      <p:sp>
        <p:nvSpPr>
          <p:cNvPr id="129" name="직사각형 1"/>
          <p:cNvSpPr/>
          <p:nvPr/>
        </p:nvSpPr>
        <p:spPr>
          <a:xfrm>
            <a:off x="7075440" y="4268880"/>
            <a:ext cx="43200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전송내역 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884160" y="923760"/>
            <a:ext cx="72486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전송내역 등록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예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그림 1" descr=""/>
          <p:cNvPicPr/>
          <p:nvPr/>
        </p:nvPicPr>
        <p:blipFill>
          <a:blip r:embed="rId1"/>
          <a:srcRect l="23565" t="11762" r="0" b="0"/>
          <a:stretch/>
        </p:blipFill>
        <p:spPr>
          <a:xfrm>
            <a:off x="1042920" y="907920"/>
            <a:ext cx="6769080" cy="5416560"/>
          </a:xfrm>
          <a:prstGeom prst="rect">
            <a:avLst/>
          </a:prstGeom>
          <a:ln w="0">
            <a:noFill/>
          </a:ln>
        </p:spPr>
      </p:pic>
      <p:sp>
        <p:nvSpPr>
          <p:cNvPr id="134" name="직사각형 4"/>
          <p:cNvSpPr/>
          <p:nvPr/>
        </p:nvSpPr>
        <p:spPr>
          <a:xfrm>
            <a:off x="4211640" y="4005360"/>
            <a:ext cx="309708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직사각형 5"/>
          <p:cNvSpPr/>
          <p:nvPr/>
        </p:nvSpPr>
        <p:spPr>
          <a:xfrm>
            <a:off x="2340000" y="4005360"/>
            <a:ext cx="86364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전송내역 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915840" y="941400"/>
            <a:ext cx="7258320" cy="5095800"/>
          </a:xfrm>
          <a:prstGeom prst="rect">
            <a:avLst/>
          </a:prstGeom>
          <a:ln w="0">
            <a:noFill/>
          </a:ln>
        </p:spPr>
      </p:pic>
      <p:sp>
        <p:nvSpPr>
          <p:cNvPr id="138" name="직사각형 3"/>
          <p:cNvSpPr/>
          <p:nvPr/>
        </p:nvSpPr>
        <p:spPr>
          <a:xfrm>
            <a:off x="2608200" y="4797360"/>
            <a:ext cx="1058760" cy="17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전송내역 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19080" y="932040"/>
            <a:ext cx="72295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전송내역조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등록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취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950760" y="927000"/>
            <a:ext cx="71438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09800" y="808200"/>
            <a:ext cx="719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전송내역 취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892080" y="922320"/>
            <a:ext cx="7201080" cy="4314960"/>
          </a:xfrm>
          <a:prstGeom prst="rect">
            <a:avLst/>
          </a:prstGeom>
          <a:ln w="0">
            <a:noFill/>
          </a:ln>
        </p:spPr>
      </p:pic>
      <p:sp>
        <p:nvSpPr>
          <p:cNvPr id="145" name="직사각형 4"/>
          <p:cNvSpPr/>
          <p:nvPr/>
        </p:nvSpPr>
        <p:spPr>
          <a:xfrm>
            <a:off x="7510320" y="4262400"/>
            <a:ext cx="4273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전송내역 취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955800" y="944640"/>
            <a:ext cx="7153200" cy="4476600"/>
          </a:xfrm>
          <a:prstGeom prst="rect">
            <a:avLst/>
          </a:prstGeom>
          <a:ln w="0">
            <a:noFill/>
          </a:ln>
        </p:spPr>
      </p:pic>
      <p:sp>
        <p:nvSpPr>
          <p:cNvPr id="148" name="직사각형 3"/>
          <p:cNvSpPr/>
          <p:nvPr/>
        </p:nvSpPr>
        <p:spPr>
          <a:xfrm>
            <a:off x="2440080" y="4581360"/>
            <a:ext cx="1268280" cy="17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전송내역 취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00000" y="922320"/>
            <a:ext cx="72010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량등록처리결과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981000" y="907920"/>
            <a:ext cx="7182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량등록처리결과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835280" y="712800"/>
            <a:ext cx="581472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량등록처리결과조회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의뢰건수상세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6" name="Picture 3" descr="C:\Users\Administrator\Pictures\그림16.png"/>
          <p:cNvPicPr/>
          <p:nvPr/>
        </p:nvPicPr>
        <p:blipFill>
          <a:blip r:embed="rId1"/>
          <a:stretch/>
        </p:blipFill>
        <p:spPr>
          <a:xfrm>
            <a:off x="1292400" y="668160"/>
            <a:ext cx="6557760" cy="57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량등록처리결과조회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처리건수 상세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Picture 3" descr="C:\Users\Administrator\Pictures\그림17.png"/>
          <p:cNvPicPr/>
          <p:nvPr/>
        </p:nvPicPr>
        <p:blipFill>
          <a:blip r:embed="rId1"/>
          <a:stretch/>
        </p:blipFill>
        <p:spPr>
          <a:xfrm>
            <a:off x="1282680" y="668160"/>
            <a:ext cx="654696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처리내역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대량등록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대량등록처리결과조회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미처리건수 상세내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0" name="Picture 3" descr="C:\Users\Administrator\Pictures\그림18.png"/>
          <p:cNvPicPr/>
          <p:nvPr/>
        </p:nvPicPr>
        <p:blipFill>
          <a:blip r:embed="rId1"/>
          <a:stretch/>
        </p:blipFill>
        <p:spPr>
          <a:xfrm>
            <a:off x="1276200" y="636480"/>
            <a:ext cx="655812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2050920" y="4403880"/>
            <a:ext cx="5181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333399"/>
                </a:solidFill>
                <a:latin typeface="MD아트체"/>
                <a:ea typeface="MD아트체"/>
              </a:rPr>
              <a:t>수고하셨습니다</a:t>
            </a:r>
            <a:r>
              <a:rPr b="0" lang="en-US" sz="4500" spc="-1" strike="noStrike">
                <a:solidFill>
                  <a:srgbClr val="333399"/>
                </a:solidFill>
                <a:latin typeface="MD아트체"/>
                <a:ea typeface="MD아트체"/>
              </a:rPr>
              <a:t>.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6" descr="charac76"/>
          <p:cNvPicPr/>
          <p:nvPr/>
        </p:nvPicPr>
        <p:blipFill>
          <a:blip r:embed="rId1"/>
          <a:stretch/>
        </p:blipFill>
        <p:spPr>
          <a:xfrm>
            <a:off x="3687840" y="1706400"/>
            <a:ext cx="16398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즉시취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취소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042920" y="1077840"/>
            <a:ext cx="71629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즉시취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취소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042920" y="636480"/>
            <a:ext cx="6985080" cy="617724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3"/>
          <p:cNvSpPr/>
          <p:nvPr/>
        </p:nvSpPr>
        <p:spPr>
          <a:xfrm>
            <a:off x="2217600" y="5989680"/>
            <a:ext cx="1249560" cy="158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즉시취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취소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52560" y="893880"/>
            <a:ext cx="7238880" cy="4695840"/>
          </a:xfrm>
          <a:prstGeom prst="rect">
            <a:avLst/>
          </a:prstGeom>
          <a:ln w="0">
            <a:noFill/>
          </a:ln>
        </p:spPr>
      </p:pic>
      <p:sp>
        <p:nvSpPr>
          <p:cNvPr id="68" name="직사각형 3"/>
          <p:cNvSpPr/>
          <p:nvPr/>
        </p:nvSpPr>
        <p:spPr>
          <a:xfrm>
            <a:off x="2639880" y="4429080"/>
            <a:ext cx="1074960" cy="174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즉시취소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취소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44640" y="900000"/>
            <a:ext cx="72198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08000" y="10332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기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매물품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☞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구매물품취소신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승인거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90720" y="934920"/>
            <a:ext cx="7162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5:45:36Z</dcterms:created>
  <dc:creator>조현상</dc:creator>
  <dc:description/>
  <dc:language>en-US</dc:language>
  <cp:lastModifiedBy>nhbank</cp:lastModifiedBy>
  <dcterms:modified xsi:type="dcterms:W3CDTF">2020-12-02T07:51:11Z</dcterms:modified>
  <cp:revision>56</cp:revision>
  <dc:subject/>
  <dc:title>B2B구매자금대출 이용안내</dc:title>
</cp:coreProperties>
</file>